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F330-B012-42D4-B4BB-E888EAD1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3DD-9354-46F6-84C5-F42738C6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7F0-3FA3-4911-96B0-B9E3F147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58F-BA2A-4D46-9674-34891B3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617-4EB3-4A80-B53E-7256DA3A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928-8129-4F89-93CA-02D1E2DE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028-E736-4B81-BD26-AE9D0383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2D5-C89D-4D57-8EBB-97729736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C0F-8976-4058-BA05-07F40510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67B-DAC0-41DD-8AC6-91D566CA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D73-C2D0-4CA2-ACD9-851823C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DE3-5491-4C9F-AABD-F250880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996-610E-4578-84DE-1E877A63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61D-800C-4781-B3E7-C5760A2B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wright.wikispac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76720" y="3276720"/>
            <a:ext cx="3047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ll Clin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228600"/>
            <a:ext cx="3809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itzha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4120" y="1522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asser Araf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ckground and mai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the worksheet ‘Successes and failures from Camp David to Oslo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through the questions: which questions do you already know the answers 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write down/type up your answers to the questions, make sure you title and date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ish early go to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rwright.wikispaces.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n IGCSE, then Middle East and find the ‘half a minute’ quiz on this su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due 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56-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rm of a mind map answer question 2 from page 6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Osl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838080"/>
            <a:ext cx="6705720" cy="480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2120"/>
            <a:ext cx="2286000" cy="4307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oint is the cartoonist trying to m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think the assassination of Rabin might have affected the prospects for peace in the Middle E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5680" y="29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Os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54-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s a group questions c,d &amp;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characterize the position of the peace process in 1997? How does the situation compare with 1967? 1978? 199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slo Peace Accords: 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09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acc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Israel 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uccessful were they in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eded to be sorted out between the PLO and Isra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s brainstorm the different points of conflict/issues that need to be dealt with at this stage to ensure successful pe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! Land, refugees, power, rights, Jerusalem, settlers? What does Israel want? What does the PLO w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re the Acc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agreements negotiated in Oslo (Norway) and signed in Washington between Israel and the PLO in September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inciples were that Israel recognised the PLO and the PLO recognised Isra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t up self rule for Gaza strip and West Bank under a ‘Palestinian Authorit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the way for negotiations on the many remaining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issues remained unres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sraeli troops in some parts of the occupied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100,000’s of refugees in the camps in Lebanon, Syria, Jordan etc? No ‘right to retur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ish settlements still in the West Bank - not under the control of the new ‘Palestinian authority’, what is their long term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ere the key individu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sser Ara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sser Arafat - who had gradually been moving the PLO closer to recognizing Israel (However his willingness to negotiate had led to splits in the PLO including the rise of Hamas)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65840" y="1981080"/>
            <a:ext cx="317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tzhak Ra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Prime Minister of Israel from 1992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the Labour Party: prepared to make a deal with the Palestinians unlike his predecessor Sham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the ultimate price for peace: was assassinated by an Israeli extr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mon P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 foreign min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secret negotiations in O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over as PM after the death of Rabin in 19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44:04Z</dcterms:created>
  <dc:creator>Mr. Wright</dc:creator>
  <dc:description/>
  <dc:language>en-US</dc:language>
  <cp:lastModifiedBy>Mr. Wright</cp:lastModifiedBy>
  <dcterms:modified xsi:type="dcterms:W3CDTF">2008-11-04T23:53:26Z</dcterms:modified>
  <cp:revision>15</cp:revision>
  <dc:subject/>
  <dc:title>PowerPoint Presentation</dc:title>
</cp:coreProperties>
</file>